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C28-560C-46D3-972B-9FEAA73A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4A6-AA78-4598-877E-969CFFC4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B889-8955-4A4D-9A6F-9574BD419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657-5251-4640-B415-F950920C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2A5E-D994-434F-A35F-11DA362A3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1F4E-952E-4023-B8DC-942FBD52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8059-BA31-488A-9EC1-FA671589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0CC4-9800-488E-9475-30CD3DA5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1933-680E-4464-AE5E-E81A3D25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757E-235F-4AFA-9A15-481BCF07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AB2-4C4D-41BF-A08D-2078490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7AA-950C-47AF-9BF5-EE62CA6B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54545-7842-4D72-A804-EF831620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15FAF-F0DD-4318-9A26-D027147D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9540-69FE-4294-B7DC-C705CF94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F5A5-4F4D-416D-A4E9-30C11F80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52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240" y="18288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52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240" y="3738600"/>
            <a:ext cx="247752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8207-02A5-4E43-9D85-186816530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3FF-B0BB-47EF-91F5-218B0EC3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E00-0DC5-4312-AD77-BA84AA15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478-B4CB-46F3-9B82-AA765E0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-352800"/>
            <a:ext cx="68691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21A-68FA-4D68-B45A-E6794B74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B8C-47C8-482A-A00C-72FD7C88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8880" y="37386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A282-F671-4620-9AB2-2BB2A6A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8880" y="1828800"/>
            <a:ext cx="3754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8600"/>
            <a:ext cx="769464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908F-CFBF-4FE8-9089-81EF6D30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0000">
            <a:off x="7776360" y="-13680"/>
            <a:ext cx="116172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-352800"/>
            <a:ext cx="68691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464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2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796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A62A2B9-DF8F-4E8E-91C3-A748D91DA0E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00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0000">
            <a:off x="7830720" y="19332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200" y="-86400"/>
            <a:ext cx="2428200" cy="2244960"/>
            <a:chOff x="7171200" y="-86400"/>
            <a:chExt cx="2428200" cy="2244960"/>
          </a:xfrm>
        </p:grpSpPr>
        <p:grpSp>
          <p:nvGrpSpPr>
            <p:cNvPr id="39" name=""/>
            <p:cNvGrpSpPr/>
            <p:nvPr/>
          </p:nvGrpSpPr>
          <p:grpSpPr>
            <a:xfrm>
              <a:off x="7171200" y="-86400"/>
              <a:ext cx="2428200" cy="2244960"/>
              <a:chOff x="7171200" y="-86400"/>
              <a:chExt cx="2428200" cy="2244960"/>
            </a:xfrm>
          </p:grpSpPr>
          <p:sp>
            <p:nvSpPr>
              <p:cNvPr id="40" name=""/>
              <p:cNvSpPr/>
              <p:nvPr/>
            </p:nvSpPr>
            <p:spPr>
              <a:xfrm rot="18420000">
                <a:off x="8618400" y="1725120"/>
                <a:ext cx="9828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200" y="-86400"/>
                <a:ext cx="2428200" cy="2244960"/>
                <a:chOff x="7171200" y="-86400"/>
                <a:chExt cx="2428200" cy="2244960"/>
              </a:xfrm>
            </p:grpSpPr>
            <p:sp>
              <p:nvSpPr>
                <p:cNvPr id="42" name=""/>
                <p:cNvSpPr/>
                <p:nvPr/>
              </p:nvSpPr>
              <p:spPr>
                <a:xfrm rot="184200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0000">
                  <a:off x="8012880" y="527400"/>
                  <a:ext cx="42696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0000">
                  <a:off x="7712640" y="29088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00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0000">
                  <a:off x="8408160" y="142416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0000">
                  <a:off x="8338320" y="128016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0000">
                  <a:off x="7911720" y="334440"/>
                  <a:ext cx="28764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0000">
                  <a:off x="7854120" y="22572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399360" cy="22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7F9CD45-86DA-42D8-AC2D-B0D55B19F3ED}" type="slidenum">
              <a:rPr b="0" lang="ru-RU" sz="1400" spc="-1" strike="noStrike">
                <a:solidFill>
                  <a:srgbClr val="000000"/>
                </a:solidFill>
                <a:latin typeface="Comic Sans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800480" y="4318200"/>
            <a:ext cx="979560" cy="1159560"/>
            <a:chOff x="7800480" y="4318200"/>
            <a:chExt cx="97956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4360" y="465912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9160" y="463788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8000" y="4625280"/>
              <a:ext cx="66024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800480" y="4318200"/>
              <a:ext cx="979560" cy="1159560"/>
              <a:chOff x="7800480" y="4318200"/>
              <a:chExt cx="97956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20000" y="5065560"/>
                <a:ext cx="9360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60520" y="4651200"/>
                <a:ext cx="1058760" cy="4935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7360" y="4755960"/>
                <a:ext cx="74916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5800" y="4563360"/>
                <a:ext cx="100080" cy="18720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5080" y="4759560"/>
                <a:ext cx="306360" cy="16524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omic Sans MS"/>
              </a:rPr>
              <a:t>Русский язык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219320"/>
          <a:ext cx="7315200" cy="4222800"/>
        </p:xfrm>
        <a:graphic>
          <a:graphicData uri="http://schemas.openxmlformats.org/drawingml/2006/table">
            <a:tbl>
              <a:tblPr/>
              <a:tblGrid>
                <a:gridCol w="2690640"/>
                <a:gridCol w="1681200"/>
                <a:gridCol w="1266840"/>
                <a:gridCol w="167652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твечает на вопрос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раж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зна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одчеркива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просы косвенных падежей (кого?чего?кому?чему?что?кем?чем?о ком?о чём?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менем существительны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едм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нктирной линией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_ _ _ _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77640"/>
            <a:ext cx="687096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 падснежнике написано много кник. Он разпускается раней весной, с весеней капелью. Стоит появится мартовскому сонцу, как около проталины мы можем увидеть новую зели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5000"/>
            <a:ext cx="6870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9800" indent="-28980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О п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дснежнике написано много кни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г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. Он р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с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пускается ра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й весной, с весе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нн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ей капелью. Стоит появи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ться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мартовскому с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лн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цу, как около проталины мы можем увидеть новую зел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Comic Sans MS"/>
              </a:rPr>
              <a:t>е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нь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37944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Лесенка успех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лично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лох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447920" y="4570200"/>
            <a:ext cx="1440" cy="841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572000"/>
            <a:ext cx="10666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514600" y="3808080"/>
            <a:ext cx="1440" cy="765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14600" y="3809880"/>
            <a:ext cx="91440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3429000" y="3046320"/>
            <a:ext cx="1440" cy="765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3048120"/>
            <a:ext cx="83808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2360520"/>
            <a:ext cx="1800" cy="6890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2362320"/>
            <a:ext cx="243864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Главные члены предл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лежаще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1280" indent="-3412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Сказуемо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одчеркните главные члены предложения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Каждой веточкой живой лес беседует со мной. Яркий огонь костра осветил поляну. От цветка исходил нежный аромат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529920"/>
            <a:ext cx="68706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овер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Каждой веточкой живой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лес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беседует со мной. Яркий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огон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костра осветил поляну. От цветка исходил нежный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Comic Sans MS"/>
              </a:rPr>
              <a:t>аромат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1143000" y="3200400"/>
            <a:ext cx="2209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124080"/>
            <a:ext cx="2209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0" y="3886200"/>
            <a:ext cx="2209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3809880"/>
            <a:ext cx="2209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4572000"/>
            <a:ext cx="2209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19920" y="4495680"/>
            <a:ext cx="2209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амооцен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133720"/>
            <a:ext cx="1440" cy="297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2743200"/>
            <a:ext cx="60948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656160" y="2743200"/>
            <a:ext cx="6127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Моя семь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7386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Я расскажу о своей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о чем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. Папа работает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кем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. Мама занимается домашним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чем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. Она любит готовить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что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.  Вечерами мы собираемся за круглым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чем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и разговариваем </a:t>
            </a:r>
            <a:r>
              <a:rPr b="1" i="1" lang="ru-RU" sz="3600" spc="-1" strike="noStrike">
                <a:solidFill>
                  <a:srgbClr val="000000"/>
                </a:solidFill>
                <a:latin typeface="Comic Sans MS"/>
              </a:rPr>
              <a:t>(о чем?)</a:t>
            </a: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 … .  Я люблю свою семью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торостепенный член предложения - дополнени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Развитие умения определять дополнение в тексте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Это второстепенный член предложения, который отвечает на вопросы косвенных падежей и обозначает предмет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5:30:53Z</dcterms:created>
  <dc:creator>Алена</dc:creator>
  <dc:description/>
  <dc:language>en-US</dc:language>
  <cp:lastModifiedBy>Людмила Евдокимова</cp:lastModifiedBy>
  <dcterms:modified xsi:type="dcterms:W3CDTF">2013-03-11T16:32:4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