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612-88A7-4716-9BE8-06079C3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32A-205A-4041-8682-D7A2773A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AD0-1F42-4C95-8BD2-13878590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EBC-F50F-4CAA-8D6E-6FEA850D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E59A-FC84-4C0F-8CD1-2C89EBD2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E05-E2FA-4A97-933B-CB71784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6416-BC92-4CDC-BF91-F0B6F39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7D0F-99F7-441D-AC37-F824BE1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EBF4-09BF-4A8A-AA55-FC37D94E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3978-3A83-49AC-8666-2F377DCB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B6A-69D0-4F77-8513-77BD030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72E-CCC9-4CBD-AD0B-5EB42C5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AF5-5A3B-43D4-9F32-29DD738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797-29ED-4BDD-BB7C-5F5C8E8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F4E7-B091-41F7-BCAB-C715CFC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7BF-0637-4113-8C0E-71EE0CF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D7C-4CC3-4259-9A83-161C7AA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A98-E98E-49C3-AFAF-54F041B0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5C6-BAB5-4E90-920E-6826DE6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139-2F46-416D-9C09-8BB09C4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FB5-0442-40B5-B2FD-EF57F98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04E-FB9F-4DCA-AD0C-F6C5735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E9A-987C-432A-94D5-B32D20D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72B-0165-4AEE-8539-E1EF7E3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3240"/>
              <a:ext cx="1295280" cy="6307200"/>
              <a:chOff x="7848720" y="3240"/>
              <a:chExt cx="1295280" cy="63072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3240"/>
                <a:ext cx="762120" cy="2268360"/>
                <a:chOff x="8381880" y="3240"/>
                <a:chExt cx="762120" cy="22683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2640" y="3240"/>
                  <a:ext cx="279360" cy="276120"/>
                  <a:chOff x="8702640" y="3240"/>
                  <a:chExt cx="279360" cy="27612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2640" y="3240"/>
                    <a:ext cx="279360" cy="276120"/>
                    <a:chOff x="8702640" y="3240"/>
                    <a:chExt cx="279360" cy="27612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1520" y="-356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1240" y="961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400"/>
                    <a:ext cx="2700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920" y="74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000" y="62640"/>
                    <a:ext cx="63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040" y="113400"/>
                    <a:ext cx="237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3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1400" y="165600"/>
                    <a:ext cx="38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84E2B8-080C-4D28-856D-CCFAE1BD58D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3240"/>
              <a:ext cx="1295280" cy="6307200"/>
              <a:chOff x="7848720" y="3240"/>
              <a:chExt cx="1295280" cy="63072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3240"/>
                <a:ext cx="762120" cy="2268360"/>
                <a:chOff x="8381880" y="3240"/>
                <a:chExt cx="762120" cy="2268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2640" y="3240"/>
                  <a:ext cx="279360" cy="276120"/>
                  <a:chOff x="8702640" y="3240"/>
                  <a:chExt cx="279360" cy="27612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2640" y="3240"/>
                    <a:ext cx="279360" cy="276120"/>
                    <a:chOff x="8702640" y="3240"/>
                    <a:chExt cx="279360" cy="2761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1520" y="-356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1240" y="961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400"/>
                    <a:ext cx="2700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5920" y="7488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000" y="62640"/>
                    <a:ext cx="63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040" y="113400"/>
                    <a:ext cx="237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1160"/>
                    <a:ext cx="63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1400" y="165600"/>
                    <a:ext cx="38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7697CA-4667-4F43-91A3-99E13589EC34}" type="slidenum">
              <a:rPr b="0" lang="ru-RU" sz="1000" spc="-1" strike="noStrike">
                <a:solidFill>
                  <a:srgbClr val="2f1311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118880"/>
            <a:ext cx="696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7d47d"/>
                </a:solidFill>
                <a:latin typeface="Times New Roman"/>
              </a:rPr>
              <a:t>Урок русского</a:t>
            </a:r>
            <a:r>
              <a:rPr b="1" lang="en-US" sz="66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7d47d"/>
                </a:solidFill>
                <a:latin typeface="Times New Roman"/>
              </a:rPr>
              <a:t>языка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560" y="4495320"/>
            <a:ext cx="4700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2f1311"/>
                </a:solidFill>
                <a:latin typeface="Arial"/>
              </a:rPr>
              <a:t>В  3 класс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лагол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делать?               Что сделать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сти                            рассказ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езти                            придум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133720"/>
            <a:ext cx="1800" cy="68580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2133720"/>
            <a:ext cx="1440" cy="68580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433440"/>
            <a:ext cx="7477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Выпишите глаголы в неопределённой форме, выделите ту часть в слове, которая указывает на неопределённую форму. Как называется эта часть слова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 поступить, если хочется дратьс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лакать, кричать, и щипать, и бодатьс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Хочется очень толкать и брыкатьс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Прыгать, скакать и юлой извиваться…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03040"/>
            <a:ext cx="7476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ставьте глагол в неопределённую форм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живешь - …, ползешь-…, бережешь …, глядишь-…, спишь-…, растешь-…, печешь-..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амопровер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Живешь–жить(+), ползешь- ползти(+), бережешь- беречь(+), глядишь- глядеть(+), спишь- спать(+) , растешь- расти(+), печешь- печь(+)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Минутка чистописания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513160"/>
            <a:ext cx="738684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2f1311"/>
                </a:solidFill>
                <a:latin typeface="Arial"/>
              </a:rPr>
              <a:t>ТЬ, ТИ, ЧЬ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7d47d"/>
                </a:solidFill>
                <a:latin typeface="Arial"/>
              </a:rPr>
              <a:t>Глагол: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ая это часть реч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означает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вечает на вопросы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меняется по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лаго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тоящего  Будущего   Прошедш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ремени        времени     времен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Слов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тречает, отвечал, принести, прочитает, одевал, оживёт, разобьёт, идёт, забыв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60320" y="990720"/>
            <a:ext cx="2136960" cy="10666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143000"/>
            <a:ext cx="1800" cy="8380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990720"/>
            <a:ext cx="1600200" cy="99036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лагол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тоящего  Будущего   Прошедш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ремени        времени     времен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тречает    прочитает      отвеча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дёт             оживёт           одева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обьё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инести, забыват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- ??????????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60320" y="990720"/>
            <a:ext cx="2136960" cy="10666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1143000"/>
            <a:ext cx="1800" cy="8380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990720"/>
            <a:ext cx="1600200" cy="99036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18684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еопределённая форма глагол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ачальная форма глагол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Инфинитив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f1311"/>
                </a:solidFill>
                <a:latin typeface="Arial"/>
              </a:rPr>
              <a:t>«Неопределённая форма глагола»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риобретение новых знаний о глаголах в неопределённой форме, развитие умения работать с ним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14256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Распредели глаголы на 2 групп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ассказа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Придума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Нес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Вез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1:49:22Z</dcterms:created>
  <dc:creator>Алена</dc:creator>
  <dc:description/>
  <dc:language>en-US</dc:language>
  <cp:lastModifiedBy>Людмила Евдокимова</cp:lastModifiedBy>
  <dcterms:modified xsi:type="dcterms:W3CDTF">2013-04-22T12:56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